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11.png" ContentType="image/png"/>
  <Override PartName="/ppt/media/image4.pct" ContentType="image/x-pict"/>
  <Override PartName="/ppt/media/image12.png" ContentType="image/png"/>
  <Override PartName="/ppt/media/image5.pct" ContentType="image/x-pict"/>
  <Override PartName="/ppt/media/image10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614D-FF02-4073-B4E2-9626D0378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BD0D-BC02-4BB8-AB29-4A53C4FB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F6E6-888D-4AFE-84CA-7CC80EFB1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374D-BD48-4B2E-B32F-D5C05D8F1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865C-9A44-4342-BFDC-CFA6C22EF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28C5-E260-4EAE-A9C4-D0611BC9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9EE3-B407-4BDE-B63D-AADE5C8B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7443-9348-4EA9-9052-AFA29ED1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C6A6-3CEB-4E06-B34A-7E2FC091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B9B1-2E25-4976-9030-7433C0A7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5AF4-891C-4166-A779-7431BCE0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17A8-35C4-4960-B49D-BFD30801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CCEA-0921-414E-979E-9047776B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8596-D739-4694-BFAE-9CA9234A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0E69-79F2-42F3-9CFC-8274CF0F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4F89-8591-445E-A053-1A27F52F7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0AD4-232A-46D8-8968-A1ECE1B4E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397A-2B9C-4650-BEF5-C1B609A7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7BE8-029C-46F9-88A1-0EC7D017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7F53-6A4C-4E4B-AE67-82F21010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5482-29B8-4822-A4A5-EC8D78C1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02FF-2FD5-4A60-8906-574BEF83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4F7C-7BF7-487E-B316-7515F1BA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6B81-B1B3-47DD-B622-DE40AD8E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3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Addison-Wesley Publishers 200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FCB2-8955-4949-A823-330CC6D618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73F7-FB2F-4886-AECF-EABCCDB258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lides for Chapter 2: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rchitectural Models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1320" y="2895480"/>
            <a:ext cx="69339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24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24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8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dition 3, © Addison-Wesley 2001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5360" y="2895480"/>
            <a:ext cx="1933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al-time ordering of event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22360" y="1654200"/>
            <a:ext cx="869940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1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rocesses and channel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42960" y="2457360"/>
            <a:ext cx="853920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1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mission and arbitrary failur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15960" y="1631880"/>
            <a:ext cx="8756640" cy="4236120"/>
            <a:chOff x="615960" y="1631880"/>
            <a:chExt cx="8756640" cy="4236120"/>
          </a:xfrm>
        </p:grpSpPr>
        <p:sp>
          <p:nvSpPr>
            <p:cNvPr id="195" name=""/>
            <p:cNvSpPr/>
            <p:nvPr/>
          </p:nvSpPr>
          <p:spPr>
            <a:xfrm>
              <a:off x="648360" y="1668600"/>
              <a:ext cx="1570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lass of fail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97760" y="1668600"/>
              <a:ext cx="691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ffec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19800" y="1668600"/>
              <a:ext cx="1203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5960" y="1631880"/>
              <a:ext cx="19479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87680" y="1631880"/>
              <a:ext cx="9986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11520" y="1631880"/>
              <a:ext cx="564372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4240" y="1992240"/>
              <a:ext cx="906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ail-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82200" y="19922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607200" y="1992240"/>
              <a:ext cx="5564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cess halts and remains halted. Other processes m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19080" y="2266920"/>
              <a:ext cx="1631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tect this st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615960" y="1982880"/>
              <a:ext cx="8639280" cy="1440"/>
              <a:chOff x="615960" y="1982880"/>
              <a:chExt cx="8639280" cy="1440"/>
            </a:xfrm>
          </p:grpSpPr>
          <p:sp>
            <p:nvSpPr>
              <p:cNvPr id="206" name=""/>
              <p:cNvSpPr/>
              <p:nvPr/>
            </p:nvSpPr>
            <p:spPr>
              <a:xfrm>
                <a:off x="615960" y="1982880"/>
                <a:ext cx="1947960" cy="144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587680" y="1982880"/>
                <a:ext cx="998640" cy="144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611520" y="1982880"/>
                <a:ext cx="5643720" cy="144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625680" y="2541600"/>
              <a:ext cx="595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ras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82200" y="254160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607200" y="2541600"/>
              <a:ext cx="5564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cess halts and remains halted. Other processes m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615120" y="2816280"/>
              <a:ext cx="3076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t be able to detect this sta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4240" y="3090960"/>
              <a:ext cx="977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mi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82920" y="3090960"/>
              <a:ext cx="849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han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05040" y="3090960"/>
              <a:ext cx="576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 message inserted in an outgoing message buffer ne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606120" y="3365640"/>
              <a:ext cx="522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rrives at the other end’s incoming message buffe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22080" y="3639960"/>
              <a:ext cx="1517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nd-omi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82200" y="363996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16560" y="363996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 process completes 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18040" y="3639960"/>
              <a:ext cx="532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end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11600" y="3639960"/>
              <a:ext cx="2705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ut the message is not 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11880" y="3914640"/>
              <a:ext cx="3153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 its outgoing message buffe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2800" y="4189320"/>
              <a:ext cx="1824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ceive-omi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82200" y="418932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07920" y="4189320"/>
              <a:ext cx="5141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 message is put in a process’s incoming mes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09000" y="4464000"/>
              <a:ext cx="4342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uffer, but that process does not receive i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3520" y="4738680"/>
              <a:ext cx="95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rbitr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24240" y="5013360"/>
              <a:ext cx="1203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Byzanti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480760" y="4738680"/>
              <a:ext cx="1056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cess 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82560" y="5013360"/>
              <a:ext cx="793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han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06840" y="4738680"/>
              <a:ext cx="5316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cess/channel exhibits arbitrary behaviour: it m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07200" y="5013360"/>
              <a:ext cx="520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nd/transmit arbitrary messages at arbitrary times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07560" y="5288040"/>
              <a:ext cx="4999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mit omissions; a process may stop or take 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18360" y="5562720"/>
              <a:ext cx="1443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correct step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5960" y="5864400"/>
              <a:ext cx="19479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587680" y="5864400"/>
              <a:ext cx="99864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11520" y="5864400"/>
              <a:ext cx="564372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1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iming failur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12720" y="2151000"/>
            <a:ext cx="8746200" cy="2049840"/>
            <a:chOff x="612720" y="2151000"/>
            <a:chExt cx="8746200" cy="2049840"/>
          </a:xfrm>
        </p:grpSpPr>
        <p:sp>
          <p:nvSpPr>
            <p:cNvPr id="240" name=""/>
            <p:cNvSpPr/>
            <p:nvPr/>
          </p:nvSpPr>
          <p:spPr>
            <a:xfrm>
              <a:off x="645480" y="2187720"/>
              <a:ext cx="165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lass of Fail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92720" y="2187720"/>
              <a:ext cx="691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ffec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510440" y="2187720"/>
              <a:ext cx="1203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2720" y="2151000"/>
              <a:ext cx="194472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83000" y="2151000"/>
              <a:ext cx="18954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02160" y="2151000"/>
              <a:ext cx="473868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8360" y="2525760"/>
              <a:ext cx="608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lo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91640" y="252576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02880" y="2525760"/>
              <a:ext cx="480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cess’s local clock exceeds the bounds on 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36720" y="2798640"/>
              <a:ext cx="2746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ate of drift from real tim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612720" y="2487600"/>
              <a:ext cx="8628120" cy="1440"/>
              <a:chOff x="612720" y="2487600"/>
              <a:chExt cx="8628120" cy="1440"/>
            </a:xfrm>
          </p:grpSpPr>
          <p:sp>
            <p:nvSpPr>
              <p:cNvPr id="251" name=""/>
              <p:cNvSpPr/>
              <p:nvPr/>
            </p:nvSpPr>
            <p:spPr>
              <a:xfrm>
                <a:off x="612720" y="2487600"/>
                <a:ext cx="1944720" cy="144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583000" y="2487600"/>
                <a:ext cx="1895400" cy="144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502160" y="2487600"/>
                <a:ext cx="4738680" cy="144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645120" y="3073320"/>
              <a:ext cx="1303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erform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91640" y="307332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01440" y="3073320"/>
              <a:ext cx="4363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cess exceeds the bounds on the inter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56880" y="3348000"/>
              <a:ext cx="1933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tween two step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45120" y="3622680"/>
              <a:ext cx="1303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erform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92360" y="3622680"/>
              <a:ext cx="849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han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30240" y="3622680"/>
              <a:ext cx="4828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 message’s transmission takes longer than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43560" y="3895560"/>
              <a:ext cx="1361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tated boun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2720" y="4195800"/>
              <a:ext cx="194472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83000" y="4195800"/>
              <a:ext cx="18954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02160" y="4195800"/>
              <a:ext cx="473868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1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bjects and principal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539640" y="1957320"/>
            <a:ext cx="876780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1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enemy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938160" y="2158920"/>
            <a:ext cx="7877160" cy="2519280"/>
            <a:chOff x="938160" y="2158920"/>
            <a:chExt cx="7877160" cy="2519280"/>
          </a:xfrm>
        </p:grpSpPr>
        <p:sp>
          <p:nvSpPr>
            <p:cNvPr id="269" name=""/>
            <p:cNvSpPr/>
            <p:nvPr/>
          </p:nvSpPr>
          <p:spPr>
            <a:xfrm>
              <a:off x="2606760" y="2685960"/>
              <a:ext cx="4510080" cy="1992240"/>
            </a:xfrm>
            <a:custGeom>
              <a:avLst/>
              <a:gdLst/>
              <a:ahLst/>
              <a:rect l="l" t="t" r="r" b="b"/>
              <a:pathLst>
                <a:path w="2841" h="1255">
                  <a:moveTo>
                    <a:pt x="2472" y="111"/>
                  </a:moveTo>
                  <a:lnTo>
                    <a:pt x="2011" y="74"/>
                  </a:lnTo>
                  <a:lnTo>
                    <a:pt x="1568" y="0"/>
                  </a:lnTo>
                  <a:lnTo>
                    <a:pt x="1236" y="0"/>
                  </a:lnTo>
                  <a:lnTo>
                    <a:pt x="904" y="37"/>
                  </a:lnTo>
                  <a:lnTo>
                    <a:pt x="259" y="129"/>
                  </a:lnTo>
                  <a:lnTo>
                    <a:pt x="111" y="185"/>
                  </a:lnTo>
                  <a:lnTo>
                    <a:pt x="56" y="314"/>
                  </a:lnTo>
                  <a:lnTo>
                    <a:pt x="19" y="609"/>
                  </a:lnTo>
                  <a:lnTo>
                    <a:pt x="0" y="775"/>
                  </a:lnTo>
                  <a:lnTo>
                    <a:pt x="93" y="923"/>
                  </a:lnTo>
                  <a:lnTo>
                    <a:pt x="406" y="1125"/>
                  </a:lnTo>
                  <a:lnTo>
                    <a:pt x="591" y="1199"/>
                  </a:lnTo>
                  <a:lnTo>
                    <a:pt x="775" y="1236"/>
                  </a:lnTo>
                  <a:lnTo>
                    <a:pt x="1181" y="1255"/>
                  </a:lnTo>
                  <a:lnTo>
                    <a:pt x="1993" y="1181"/>
                  </a:lnTo>
                  <a:lnTo>
                    <a:pt x="2306" y="1144"/>
                  </a:lnTo>
                  <a:lnTo>
                    <a:pt x="2601" y="1033"/>
                  </a:lnTo>
                  <a:lnTo>
                    <a:pt x="2712" y="941"/>
                  </a:lnTo>
                  <a:lnTo>
                    <a:pt x="2804" y="812"/>
                  </a:lnTo>
                  <a:lnTo>
                    <a:pt x="2841" y="683"/>
                  </a:lnTo>
                  <a:lnTo>
                    <a:pt x="2823" y="535"/>
                  </a:lnTo>
                  <a:lnTo>
                    <a:pt x="2730" y="259"/>
                  </a:lnTo>
                  <a:lnTo>
                    <a:pt x="2638" y="166"/>
                  </a:lnTo>
                  <a:lnTo>
                    <a:pt x="2491" y="129"/>
                  </a:lnTo>
                  <a:lnTo>
                    <a:pt x="2472" y="111"/>
                  </a:lnTo>
                  <a:close/>
                </a:path>
              </a:pathLst>
            </a:custGeom>
            <a:solidFill>
              <a:srgbClr val="ffdc99"/>
            </a:solidFill>
            <a:ln w="42840">
              <a:solidFill>
                <a:srgbClr val="ffd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83040" y="2657520"/>
              <a:ext cx="2021040" cy="819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954600" y="2627280"/>
              <a:ext cx="2079360" cy="879480"/>
            </a:xfrm>
            <a:prstGeom prst="ellipse">
              <a:avLst/>
            </a:prstGeom>
            <a:noFill/>
            <a:ln cap="rnd"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44440" y="3900600"/>
              <a:ext cx="2586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ommunication channe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4160" y="2197080"/>
              <a:ext cx="898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opy of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916080" y="2173320"/>
              <a:ext cx="223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62640" y="3184560"/>
              <a:ext cx="1552680" cy="966600"/>
            </a:xfrm>
            <a:prstGeom prst="ellipse">
              <a:avLst/>
            </a:prstGeom>
            <a:solidFill>
              <a:srgbClr val="ffffff"/>
            </a:solidFill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38160" y="3271680"/>
              <a:ext cx="1494000" cy="820800"/>
            </a:xfrm>
            <a:prstGeom prst="ellipse">
              <a:avLst/>
            </a:prstGeom>
            <a:solidFill>
              <a:srgbClr val="ffffff"/>
            </a:solidFill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73480" y="3535200"/>
              <a:ext cx="4948200" cy="180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373480" y="3798720"/>
              <a:ext cx="4948200" cy="180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135800" y="3514680"/>
              <a:ext cx="938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45880" y="34909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35160" y="3544920"/>
              <a:ext cx="938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445240" y="352116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01760" y="3490920"/>
              <a:ext cx="223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08440" y="3594240"/>
              <a:ext cx="117360" cy="145800"/>
            </a:xfrm>
            <a:custGeom>
              <a:avLst/>
              <a:gdLst/>
              <a:ahLst/>
              <a:rect l="l" t="t" r="r" b="b"/>
              <a:pathLst>
                <a:path w="74" h="92">
                  <a:moveTo>
                    <a:pt x="0" y="37"/>
                  </a:moveTo>
                  <a:lnTo>
                    <a:pt x="0" y="0"/>
                  </a:lnTo>
                  <a:lnTo>
                    <a:pt x="74" y="37"/>
                  </a:lnTo>
                  <a:lnTo>
                    <a:pt x="0" y="9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98760" y="3652920"/>
              <a:ext cx="409680" cy="14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3240" y="2913120"/>
              <a:ext cx="1207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he enemy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987640" y="2158920"/>
              <a:ext cx="1258920" cy="381240"/>
            </a:xfrm>
            <a:prstGeom prst="rect">
              <a:avLst/>
            </a:prstGeom>
            <a:noFill/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29360" y="3594240"/>
              <a:ext cx="117720" cy="145800"/>
            </a:xfrm>
            <a:custGeom>
              <a:avLst/>
              <a:gdLst/>
              <a:ahLst/>
              <a:rect l="l" t="t" r="r" b="b"/>
              <a:pathLst>
                <a:path w="74" h="92">
                  <a:moveTo>
                    <a:pt x="0" y="37"/>
                  </a:moveTo>
                  <a:lnTo>
                    <a:pt x="0" y="0"/>
                  </a:lnTo>
                  <a:lnTo>
                    <a:pt x="74" y="37"/>
                  </a:lnTo>
                  <a:lnTo>
                    <a:pt x="0" y="9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18240" y="3652920"/>
              <a:ext cx="380880" cy="14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204960" y="3139920"/>
              <a:ext cx="28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m’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6354360" y="3417480"/>
              <a:ext cx="235080" cy="23508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071960" y="3448080"/>
              <a:ext cx="87120" cy="439560"/>
            </a:xfrm>
            <a:prstGeom prst="ellipse">
              <a:avLst/>
            </a:prstGeom>
            <a:solidFill>
              <a:srgbClr val="ffffff"/>
            </a:solidFill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4130640" y="3360600"/>
              <a:ext cx="58680" cy="11592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13280" y="2511360"/>
              <a:ext cx="263520" cy="790560"/>
            </a:xfrm>
            <a:custGeom>
              <a:avLst/>
              <a:gdLst/>
              <a:ahLst/>
              <a:rect l="l" t="t" r="r" b="b"/>
              <a:pathLst>
                <a:path w="166" h="498">
                  <a:moveTo>
                    <a:pt x="0" y="0"/>
                  </a:moveTo>
                  <a:lnTo>
                    <a:pt x="147" y="313"/>
                  </a:lnTo>
                  <a:lnTo>
                    <a:pt x="166" y="424"/>
                  </a:lnTo>
                  <a:lnTo>
                    <a:pt x="129" y="498"/>
                  </a:lnTo>
                </a:path>
              </a:pathLst>
            </a:custGeom>
            <a:noFill/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1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ecure channel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098720" y="2502000"/>
            <a:ext cx="991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incipa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82240" y="248436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8079840" y="2705040"/>
            <a:ext cx="147960" cy="26532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226280" y="2941560"/>
            <a:ext cx="1795320" cy="1206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024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343640" y="3059280"/>
            <a:ext cx="1560600" cy="971280"/>
          </a:xfrm>
          <a:prstGeom prst="ellipse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11080" y="2941560"/>
            <a:ext cx="1824120" cy="1176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0240">
            <a:solidFill>
              <a:srgbClr val="d9aa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87480" y="3117960"/>
            <a:ext cx="1501560" cy="823680"/>
          </a:xfrm>
          <a:prstGeom prst="ellipse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665440" y="2529000"/>
            <a:ext cx="4532400" cy="2001600"/>
          </a:xfrm>
          <a:custGeom>
            <a:avLst/>
            <a:gdLst/>
            <a:ahLst/>
            <a:rect l="l" t="t" r="r" b="b"/>
            <a:pathLst>
              <a:path w="2855" h="1261">
                <a:moveTo>
                  <a:pt x="2484" y="111"/>
                </a:moveTo>
                <a:lnTo>
                  <a:pt x="2021" y="74"/>
                </a:lnTo>
                <a:lnTo>
                  <a:pt x="1576" y="19"/>
                </a:lnTo>
                <a:lnTo>
                  <a:pt x="1242" y="0"/>
                </a:lnTo>
                <a:lnTo>
                  <a:pt x="908" y="37"/>
                </a:lnTo>
                <a:lnTo>
                  <a:pt x="259" y="130"/>
                </a:lnTo>
                <a:lnTo>
                  <a:pt x="111" y="204"/>
                </a:lnTo>
                <a:lnTo>
                  <a:pt x="56" y="315"/>
                </a:lnTo>
                <a:lnTo>
                  <a:pt x="18" y="612"/>
                </a:lnTo>
                <a:lnTo>
                  <a:pt x="0" y="797"/>
                </a:lnTo>
                <a:lnTo>
                  <a:pt x="93" y="946"/>
                </a:lnTo>
                <a:lnTo>
                  <a:pt x="408" y="1131"/>
                </a:lnTo>
                <a:lnTo>
                  <a:pt x="593" y="1224"/>
                </a:lnTo>
                <a:lnTo>
                  <a:pt x="797" y="1261"/>
                </a:lnTo>
                <a:lnTo>
                  <a:pt x="1186" y="1261"/>
                </a:lnTo>
                <a:lnTo>
                  <a:pt x="2002" y="1205"/>
                </a:lnTo>
                <a:lnTo>
                  <a:pt x="2317" y="1168"/>
                </a:lnTo>
                <a:lnTo>
                  <a:pt x="2614" y="1038"/>
                </a:lnTo>
                <a:lnTo>
                  <a:pt x="2725" y="946"/>
                </a:lnTo>
                <a:lnTo>
                  <a:pt x="2818" y="834"/>
                </a:lnTo>
                <a:lnTo>
                  <a:pt x="2855" y="686"/>
                </a:lnTo>
                <a:lnTo>
                  <a:pt x="2836" y="538"/>
                </a:lnTo>
                <a:lnTo>
                  <a:pt x="2744" y="278"/>
                </a:lnTo>
                <a:lnTo>
                  <a:pt x="2651" y="167"/>
                </a:lnTo>
                <a:lnTo>
                  <a:pt x="2503" y="148"/>
                </a:lnTo>
                <a:lnTo>
                  <a:pt x="2484" y="111"/>
                </a:lnTo>
                <a:close/>
              </a:path>
            </a:pathLst>
          </a:custGeom>
          <a:solidFill>
            <a:srgbClr val="ffdc99"/>
          </a:solidFill>
          <a:ln w="30240">
            <a:solidFill>
              <a:srgbClr val="ffd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430360" y="3382920"/>
            <a:ext cx="4972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2430360" y="3668760"/>
            <a:ext cx="4989600" cy="144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59800" y="3367080"/>
            <a:ext cx="167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ure chann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189800" y="3355920"/>
            <a:ext cx="938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ces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104560" y="33386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20840" y="3367080"/>
            <a:ext cx="938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ces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535600" y="336708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182080" y="2414520"/>
            <a:ext cx="991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incipa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183240" y="237960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163520" y="2793960"/>
            <a:ext cx="147600" cy="26532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oftware and hardware service layers in distributed system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33400" y="1433520"/>
            <a:ext cx="817740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ents invoke individual server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01560" y="1976400"/>
            <a:ext cx="86407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service provided by multiple server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84360" y="1455840"/>
            <a:ext cx="640080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eb proxy server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93560" y="2117880"/>
            <a:ext cx="873792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distributed application based on peer process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5880" y="1395360"/>
            <a:ext cx="868680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eb applet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17680" y="1620720"/>
            <a:ext cx="878652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n clients and compute server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55520" y="2865600"/>
            <a:ext cx="1987560" cy="12888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55520" y="2865600"/>
            <a:ext cx="2022480" cy="1323720"/>
          </a:xfrm>
          <a:prstGeom prst="rect">
            <a:avLst/>
          </a:prstGeom>
          <a:noFill/>
          <a:ln w="507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24560" y="2552760"/>
            <a:ext cx="2752920" cy="19508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24560" y="2552760"/>
            <a:ext cx="2787840" cy="1985760"/>
          </a:xfrm>
          <a:prstGeom prst="rect">
            <a:avLst/>
          </a:prstGeom>
          <a:noFill/>
          <a:ln w="507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30480" y="3144960"/>
            <a:ext cx="1638000" cy="87156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57240" y="330048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81280" y="3613320"/>
            <a:ext cx="715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12000" y="3075120"/>
            <a:ext cx="1778040" cy="9064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55360" y="3230640"/>
            <a:ext cx="1369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47960" y="3543480"/>
            <a:ext cx="1011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6640" y="2394000"/>
            <a:ext cx="3057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twork computer or P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22720" y="2149560"/>
            <a:ext cx="1987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e ser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68480" y="3492360"/>
            <a:ext cx="417600" cy="104760"/>
          </a:xfrm>
          <a:custGeom>
            <a:avLst/>
            <a:gdLst/>
            <a:ahLst/>
            <a:rect l="l" t="t" r="r" b="b"/>
            <a:pathLst>
              <a:path w="263" h="66">
                <a:moveTo>
                  <a:pt x="0" y="22"/>
                </a:moveTo>
                <a:lnTo>
                  <a:pt x="66" y="0"/>
                </a:lnTo>
                <a:lnTo>
                  <a:pt x="176" y="22"/>
                </a:lnTo>
                <a:lnTo>
                  <a:pt x="220" y="44"/>
                </a:lnTo>
                <a:lnTo>
                  <a:pt x="263" y="66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00760" y="3492360"/>
            <a:ext cx="1046160" cy="34920"/>
          </a:xfrm>
          <a:custGeom>
            <a:avLst/>
            <a:gdLst/>
            <a:ahLst/>
            <a:rect l="l" t="t" r="r" b="b"/>
            <a:pathLst>
              <a:path w="659" h="22">
                <a:moveTo>
                  <a:pt x="659" y="0"/>
                </a:moveTo>
                <a:lnTo>
                  <a:pt x="527" y="22"/>
                </a:lnTo>
                <a:lnTo>
                  <a:pt x="286" y="22"/>
                </a:lnTo>
                <a:lnTo>
                  <a:pt x="110" y="22"/>
                </a:lnTo>
                <a:lnTo>
                  <a:pt x="0" y="22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51160" y="2865600"/>
            <a:ext cx="2824200" cy="1150920"/>
          </a:xfrm>
          <a:custGeom>
            <a:avLst/>
            <a:gdLst/>
            <a:ahLst/>
            <a:rect l="l" t="t" r="r" b="b"/>
            <a:pathLst>
              <a:path w="1779" h="725">
                <a:moveTo>
                  <a:pt x="44" y="176"/>
                </a:moveTo>
                <a:lnTo>
                  <a:pt x="66" y="132"/>
                </a:lnTo>
                <a:lnTo>
                  <a:pt x="176" y="66"/>
                </a:lnTo>
                <a:lnTo>
                  <a:pt x="286" y="44"/>
                </a:lnTo>
                <a:lnTo>
                  <a:pt x="352" y="44"/>
                </a:lnTo>
                <a:lnTo>
                  <a:pt x="396" y="22"/>
                </a:lnTo>
                <a:lnTo>
                  <a:pt x="527" y="44"/>
                </a:lnTo>
                <a:lnTo>
                  <a:pt x="659" y="66"/>
                </a:lnTo>
                <a:lnTo>
                  <a:pt x="791" y="66"/>
                </a:lnTo>
                <a:lnTo>
                  <a:pt x="923" y="66"/>
                </a:lnTo>
                <a:lnTo>
                  <a:pt x="1010" y="44"/>
                </a:lnTo>
                <a:lnTo>
                  <a:pt x="1076" y="22"/>
                </a:lnTo>
                <a:lnTo>
                  <a:pt x="1164" y="0"/>
                </a:lnTo>
                <a:lnTo>
                  <a:pt x="1274" y="0"/>
                </a:lnTo>
                <a:lnTo>
                  <a:pt x="1362" y="0"/>
                </a:lnTo>
                <a:lnTo>
                  <a:pt x="1428" y="22"/>
                </a:lnTo>
                <a:lnTo>
                  <a:pt x="1472" y="44"/>
                </a:lnTo>
                <a:lnTo>
                  <a:pt x="1559" y="66"/>
                </a:lnTo>
                <a:lnTo>
                  <a:pt x="1647" y="132"/>
                </a:lnTo>
                <a:lnTo>
                  <a:pt x="1757" y="220"/>
                </a:lnTo>
                <a:lnTo>
                  <a:pt x="1779" y="351"/>
                </a:lnTo>
                <a:lnTo>
                  <a:pt x="1779" y="439"/>
                </a:lnTo>
                <a:lnTo>
                  <a:pt x="1757" y="505"/>
                </a:lnTo>
                <a:lnTo>
                  <a:pt x="1713" y="637"/>
                </a:lnTo>
                <a:lnTo>
                  <a:pt x="1625" y="681"/>
                </a:lnTo>
                <a:lnTo>
                  <a:pt x="1494" y="725"/>
                </a:lnTo>
                <a:lnTo>
                  <a:pt x="1362" y="703"/>
                </a:lnTo>
                <a:lnTo>
                  <a:pt x="1230" y="681"/>
                </a:lnTo>
                <a:lnTo>
                  <a:pt x="1120" y="681"/>
                </a:lnTo>
                <a:lnTo>
                  <a:pt x="1010" y="659"/>
                </a:lnTo>
                <a:lnTo>
                  <a:pt x="879" y="659"/>
                </a:lnTo>
                <a:lnTo>
                  <a:pt x="769" y="659"/>
                </a:lnTo>
                <a:lnTo>
                  <a:pt x="681" y="681"/>
                </a:lnTo>
                <a:lnTo>
                  <a:pt x="593" y="681"/>
                </a:lnTo>
                <a:lnTo>
                  <a:pt x="505" y="681"/>
                </a:lnTo>
                <a:lnTo>
                  <a:pt x="418" y="703"/>
                </a:lnTo>
                <a:lnTo>
                  <a:pt x="330" y="703"/>
                </a:lnTo>
                <a:lnTo>
                  <a:pt x="264" y="703"/>
                </a:lnTo>
                <a:lnTo>
                  <a:pt x="198" y="681"/>
                </a:lnTo>
                <a:lnTo>
                  <a:pt x="154" y="659"/>
                </a:lnTo>
                <a:lnTo>
                  <a:pt x="132" y="637"/>
                </a:lnTo>
                <a:lnTo>
                  <a:pt x="110" y="615"/>
                </a:lnTo>
                <a:lnTo>
                  <a:pt x="66" y="571"/>
                </a:lnTo>
                <a:lnTo>
                  <a:pt x="22" y="483"/>
                </a:lnTo>
                <a:lnTo>
                  <a:pt x="0" y="417"/>
                </a:lnTo>
                <a:lnTo>
                  <a:pt x="0" y="351"/>
                </a:lnTo>
                <a:lnTo>
                  <a:pt x="0" y="286"/>
                </a:lnTo>
                <a:lnTo>
                  <a:pt x="22" y="220"/>
                </a:lnTo>
                <a:lnTo>
                  <a:pt x="44" y="176"/>
                </a:lnTo>
                <a:lnTo>
                  <a:pt x="44" y="176"/>
                </a:lnTo>
                <a:close/>
              </a:path>
            </a:pathLst>
          </a:custGeom>
          <a:solidFill>
            <a:srgbClr val="ffdc99"/>
          </a:solidFill>
          <a:ln w="50760">
            <a:solidFill>
              <a:srgbClr val="ffd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3360" y="3282840"/>
            <a:ext cx="979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2.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pontaneous networking in a hote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28480" y="1484280"/>
            <a:ext cx="8678520" cy="4472640"/>
            <a:chOff x="528480" y="1484280"/>
            <a:chExt cx="8678520" cy="4472640"/>
          </a:xfrm>
        </p:grpSpPr>
        <p:sp>
          <p:nvSpPr>
            <p:cNvPr id="118" name=""/>
            <p:cNvSpPr/>
            <p:nvPr/>
          </p:nvSpPr>
          <p:spPr>
            <a:xfrm>
              <a:off x="528480" y="3403440"/>
              <a:ext cx="1764000" cy="14511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8480" y="3403440"/>
              <a:ext cx="1789200" cy="147816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14320" y="3740040"/>
              <a:ext cx="1192320" cy="803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115040" y="1743120"/>
              <a:ext cx="1764000" cy="10112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115040" y="1743120"/>
              <a:ext cx="1789200" cy="103824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66520" y="2663640"/>
              <a:ext cx="732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62160" y="2222280"/>
              <a:ext cx="806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73200" y="2573280"/>
              <a:ext cx="208080" cy="4665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73200" y="2573280"/>
              <a:ext cx="233640" cy="49212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252200" y="5567400"/>
              <a:ext cx="447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PD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00880" y="1847880"/>
              <a:ext cx="1192320" cy="803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92120" y="2274840"/>
              <a:ext cx="686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03760" y="1484280"/>
              <a:ext cx="1763640" cy="10112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03760" y="1484280"/>
              <a:ext cx="1789200" cy="103644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89600" y="1587600"/>
              <a:ext cx="1191960" cy="804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28360" y="1782720"/>
              <a:ext cx="625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Music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91640" y="1963800"/>
              <a:ext cx="686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24200" y="4116240"/>
              <a:ext cx="750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87120" y="3960720"/>
              <a:ext cx="951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Discover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764840" y="2066760"/>
              <a:ext cx="566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lar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442640" y="4452840"/>
              <a:ext cx="770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amer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72960" y="5464080"/>
              <a:ext cx="685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uest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71880" y="5697360"/>
              <a:ext cx="73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devic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61560" y="55418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p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11440" y="5192640"/>
              <a:ext cx="700200" cy="6224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11440" y="5192640"/>
              <a:ext cx="725760" cy="64764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17000" y="5411880"/>
              <a:ext cx="698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V/PC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270920" y="5192640"/>
              <a:ext cx="311040" cy="233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70920" y="5192640"/>
              <a:ext cx="338040" cy="25884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440" y="5192640"/>
              <a:ext cx="1036440" cy="233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48440" y="5192640"/>
              <a:ext cx="1063440" cy="25884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81960" y="4076640"/>
              <a:ext cx="311040" cy="233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81960" y="4076640"/>
              <a:ext cx="338040" cy="26028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95600" y="2417760"/>
              <a:ext cx="155520" cy="129960"/>
            </a:xfrm>
            <a:custGeom>
              <a:avLst/>
              <a:gdLst/>
              <a:ahLst/>
              <a:rect l="l" t="t" r="r" b="b"/>
              <a:pathLst>
                <a:path w="98" h="82">
                  <a:moveTo>
                    <a:pt x="82" y="33"/>
                  </a:moveTo>
                  <a:lnTo>
                    <a:pt x="65" y="82"/>
                  </a:lnTo>
                  <a:lnTo>
                    <a:pt x="0" y="16"/>
                  </a:lnTo>
                  <a:lnTo>
                    <a:pt x="98" y="0"/>
                  </a:lnTo>
                  <a:lnTo>
                    <a:pt x="82" y="33"/>
                  </a:lnTo>
                  <a:close/>
                </a:path>
              </a:pathLst>
            </a:custGeom>
            <a:solidFill>
              <a:srgbClr val="ffdc99"/>
            </a:solidFill>
            <a:ln w="25560">
              <a:solidFill>
                <a:srgbClr val="ffd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1850760" y="2469960"/>
              <a:ext cx="569880" cy="206640"/>
            </a:xfrm>
            <a:prstGeom prst="line">
              <a:avLst/>
            </a:prstGeom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43040" y="270360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82" y="49"/>
                  </a:moveTo>
                  <a:lnTo>
                    <a:pt x="82" y="98"/>
                  </a:lnTo>
                  <a:lnTo>
                    <a:pt x="0" y="32"/>
                  </a:lnTo>
                  <a:lnTo>
                    <a:pt x="98" y="0"/>
                  </a:lnTo>
                  <a:lnTo>
                    <a:pt x="82" y="49"/>
                  </a:lnTo>
                  <a:close/>
                </a:path>
              </a:pathLst>
            </a:custGeom>
            <a:solidFill>
              <a:srgbClr val="ffdc99"/>
            </a:solidFill>
            <a:ln w="25560">
              <a:solidFill>
                <a:srgbClr val="ffd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1798200" y="2781000"/>
              <a:ext cx="622440" cy="50760"/>
            </a:xfrm>
            <a:prstGeom prst="line">
              <a:avLst/>
            </a:prstGeom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70040" y="2987640"/>
              <a:ext cx="128520" cy="155520"/>
            </a:xfrm>
            <a:custGeom>
              <a:avLst/>
              <a:gdLst/>
              <a:ahLst/>
              <a:rect l="l" t="t" r="r" b="b"/>
              <a:pathLst>
                <a:path w="81" h="98">
                  <a:moveTo>
                    <a:pt x="81" y="49"/>
                  </a:moveTo>
                  <a:lnTo>
                    <a:pt x="81" y="98"/>
                  </a:lnTo>
                  <a:lnTo>
                    <a:pt x="0" y="49"/>
                  </a:lnTo>
                  <a:lnTo>
                    <a:pt x="65" y="0"/>
                  </a:lnTo>
                  <a:lnTo>
                    <a:pt x="81" y="49"/>
                  </a:lnTo>
                  <a:close/>
                </a:path>
              </a:pathLst>
            </a:custGeom>
            <a:solidFill>
              <a:srgbClr val="ffdc99"/>
            </a:solidFill>
            <a:ln w="25560">
              <a:solidFill>
                <a:srgbClr val="ffd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798560" y="2987640"/>
              <a:ext cx="649440" cy="77760"/>
            </a:xfrm>
            <a:prstGeom prst="line">
              <a:avLst/>
            </a:prstGeom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59080" y="3376440"/>
              <a:ext cx="1219320" cy="649440"/>
            </a:xfrm>
            <a:prstGeom prst="ellipse">
              <a:avLst/>
            </a:prstGeom>
            <a:noFill/>
            <a:ln w="52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95840" y="3195720"/>
              <a:ext cx="1944720" cy="1011240"/>
            </a:xfrm>
            <a:prstGeom prst="ellipse">
              <a:avLst/>
            </a:prstGeom>
            <a:noFill/>
            <a:ln w="52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06680" y="2987640"/>
              <a:ext cx="2749680" cy="1427040"/>
            </a:xfrm>
            <a:prstGeom prst="ellipse">
              <a:avLst/>
            </a:prstGeom>
            <a:noFill/>
            <a:ln w="52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70080" y="2781360"/>
              <a:ext cx="3422880" cy="1839960"/>
            </a:xfrm>
            <a:prstGeom prst="ellipse">
              <a:avLst/>
            </a:prstGeom>
            <a:noFill/>
            <a:ln w="52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51160" y="3117960"/>
              <a:ext cx="5256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0"/>
                  </a:moveTo>
                  <a:lnTo>
                    <a:pt x="17" y="0"/>
                  </a:lnTo>
                  <a:lnTo>
                    <a:pt x="0" y="33"/>
                  </a:lnTo>
                  <a:lnTo>
                    <a:pt x="17" y="3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59680" y="4309920"/>
              <a:ext cx="52200" cy="77760"/>
            </a:xfrm>
            <a:custGeom>
              <a:avLst/>
              <a:gdLst/>
              <a:ahLst/>
              <a:rect l="l" t="t" r="r" b="b"/>
              <a:pathLst>
                <a:path w="33" h="49">
                  <a:moveTo>
                    <a:pt x="16" y="0"/>
                  </a:moveTo>
                  <a:lnTo>
                    <a:pt x="33" y="17"/>
                  </a:lnTo>
                  <a:lnTo>
                    <a:pt x="16" y="49"/>
                  </a:lnTo>
                  <a:lnTo>
                    <a:pt x="0" y="3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78160" y="3117960"/>
              <a:ext cx="3006720" cy="1244520"/>
            </a:xfrm>
            <a:custGeom>
              <a:avLst/>
              <a:gdLst/>
              <a:ahLst/>
              <a:rect l="l" t="t" r="r" b="b"/>
              <a:pathLst>
                <a:path w="1894" h="784">
                  <a:moveTo>
                    <a:pt x="16" y="0"/>
                  </a:moveTo>
                  <a:lnTo>
                    <a:pt x="0" y="33"/>
                  </a:lnTo>
                  <a:lnTo>
                    <a:pt x="1878" y="784"/>
                  </a:lnTo>
                  <a:lnTo>
                    <a:pt x="1894" y="75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78600" y="3065400"/>
              <a:ext cx="50760" cy="525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6" y="33"/>
                  </a:moveTo>
                  <a:lnTo>
                    <a:pt x="32" y="33"/>
                  </a:lnTo>
                  <a:lnTo>
                    <a:pt x="16" y="0"/>
                  </a:lnTo>
                  <a:lnTo>
                    <a:pt x="0" y="0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03720" y="4309920"/>
              <a:ext cx="52200" cy="77760"/>
            </a:xfrm>
            <a:custGeom>
              <a:avLst/>
              <a:gdLst/>
              <a:ahLst/>
              <a:rect l="l" t="t" r="r" b="b"/>
              <a:pathLst>
                <a:path w="33" h="49">
                  <a:moveTo>
                    <a:pt x="33" y="33"/>
                  </a:moveTo>
                  <a:lnTo>
                    <a:pt x="16" y="49"/>
                  </a:lnTo>
                  <a:lnTo>
                    <a:pt x="0" y="17"/>
                  </a:lnTo>
                  <a:lnTo>
                    <a:pt x="16" y="0"/>
                  </a:lnTo>
                  <a:lnTo>
                    <a:pt x="33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28920" y="3065400"/>
              <a:ext cx="2774880" cy="1297080"/>
            </a:xfrm>
            <a:custGeom>
              <a:avLst/>
              <a:gdLst/>
              <a:ahLst/>
              <a:rect l="l" t="t" r="r" b="b"/>
              <a:pathLst>
                <a:path w="1748" h="817">
                  <a:moveTo>
                    <a:pt x="1748" y="33"/>
                  </a:moveTo>
                  <a:lnTo>
                    <a:pt x="1732" y="0"/>
                  </a:lnTo>
                  <a:lnTo>
                    <a:pt x="0" y="784"/>
                  </a:lnTo>
                  <a:lnTo>
                    <a:pt x="17" y="817"/>
                  </a:lnTo>
                  <a:lnTo>
                    <a:pt x="1748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03760" y="2676600"/>
              <a:ext cx="52560" cy="2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03760" y="4673520"/>
              <a:ext cx="5256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703760" y="2703600"/>
              <a:ext cx="52560" cy="196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595920" y="3662280"/>
              <a:ext cx="2700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62360" y="3662280"/>
              <a:ext cx="2700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89360" y="3662280"/>
              <a:ext cx="370656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48760" y="3544920"/>
              <a:ext cx="1349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otel wireles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50920" y="3830400"/>
              <a:ext cx="758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07120" y="4362480"/>
              <a:ext cx="1038240" cy="752400"/>
            </a:xfrm>
            <a:custGeom>
              <a:avLst/>
              <a:gdLst/>
              <a:ahLst/>
              <a:rect l="l" t="t" r="r" b="b"/>
              <a:pathLst>
                <a:path w="654" h="474">
                  <a:moveTo>
                    <a:pt x="654" y="474"/>
                  </a:moveTo>
                  <a:lnTo>
                    <a:pt x="343" y="196"/>
                  </a:lnTo>
                  <a:lnTo>
                    <a:pt x="245" y="278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45160" y="2469960"/>
              <a:ext cx="725760" cy="777960"/>
            </a:xfrm>
            <a:custGeom>
              <a:avLst/>
              <a:gdLst/>
              <a:ahLst/>
              <a:rect l="l" t="t" r="r" b="b"/>
              <a:pathLst>
                <a:path w="457" h="490">
                  <a:moveTo>
                    <a:pt x="0" y="490"/>
                  </a:moveTo>
                  <a:lnTo>
                    <a:pt x="212" y="196"/>
                  </a:lnTo>
                  <a:lnTo>
                    <a:pt x="277" y="294"/>
                  </a:lnTo>
                  <a:lnTo>
                    <a:pt x="457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518160" y="4025880"/>
              <a:ext cx="908280" cy="155520"/>
            </a:xfrm>
            <a:custGeom>
              <a:avLst/>
              <a:gdLst/>
              <a:ahLst/>
              <a:rect l="l" t="t" r="r" b="b"/>
              <a:pathLst>
                <a:path w="572" h="98">
                  <a:moveTo>
                    <a:pt x="572" y="81"/>
                  </a:moveTo>
                  <a:lnTo>
                    <a:pt x="262" y="0"/>
                  </a:lnTo>
                  <a:lnTo>
                    <a:pt x="278" y="98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95840" y="4595760"/>
              <a:ext cx="544320" cy="519120"/>
            </a:xfrm>
            <a:custGeom>
              <a:avLst/>
              <a:gdLst/>
              <a:ahLst/>
              <a:rect l="l" t="t" r="r" b="b"/>
              <a:pathLst>
                <a:path w="343" h="327">
                  <a:moveTo>
                    <a:pt x="0" y="327"/>
                  </a:moveTo>
                  <a:lnTo>
                    <a:pt x="164" y="131"/>
                  </a:lnTo>
                  <a:lnTo>
                    <a:pt x="213" y="196"/>
                  </a:lnTo>
                  <a:lnTo>
                    <a:pt x="343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48440" y="4621320"/>
              <a:ext cx="544320" cy="49356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311"/>
                  </a:moveTo>
                  <a:lnTo>
                    <a:pt x="180" y="131"/>
                  </a:lnTo>
                  <a:lnTo>
                    <a:pt x="131" y="18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092560" y="2314440"/>
              <a:ext cx="544680" cy="492120"/>
            </a:xfrm>
            <a:custGeom>
              <a:avLst/>
              <a:gdLst/>
              <a:ahLst/>
              <a:rect l="l" t="t" r="r" b="b"/>
              <a:pathLst>
                <a:path w="343" h="310">
                  <a:moveTo>
                    <a:pt x="0" y="310"/>
                  </a:moveTo>
                  <a:lnTo>
                    <a:pt x="163" y="130"/>
                  </a:lnTo>
                  <a:lnTo>
                    <a:pt x="212" y="179"/>
                  </a:lnTo>
                  <a:lnTo>
                    <a:pt x="343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84600" y="2806560"/>
              <a:ext cx="907920" cy="155520"/>
            </a:xfrm>
            <a:custGeom>
              <a:avLst/>
              <a:gdLst/>
              <a:ahLst/>
              <a:rect l="l" t="t" r="r" b="b"/>
              <a:pathLst>
                <a:path w="572" h="98">
                  <a:moveTo>
                    <a:pt x="572" y="82"/>
                  </a:moveTo>
                  <a:lnTo>
                    <a:pt x="262" y="0"/>
                  </a:lnTo>
                  <a:lnTo>
                    <a:pt x="278" y="98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62160" y="4129200"/>
              <a:ext cx="907920" cy="155520"/>
            </a:xfrm>
            <a:custGeom>
              <a:avLst/>
              <a:gdLst/>
              <a:ahLst/>
              <a:rect l="l" t="t" r="r" b="b"/>
              <a:pathLst>
                <a:path w="572" h="98">
                  <a:moveTo>
                    <a:pt x="572" y="82"/>
                  </a:moveTo>
                  <a:lnTo>
                    <a:pt x="261" y="0"/>
                  </a:lnTo>
                  <a:lnTo>
                    <a:pt x="278" y="98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30640" y="5862600"/>
              <a:ext cx="33195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45040" y="4995720"/>
              <a:ext cx="21747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40680" y="3540240"/>
              <a:ext cx="1084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5033880" y="4973040"/>
              <a:ext cx="0" cy="8686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8318520" y="3553920"/>
              <a:ext cx="0" cy="22892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7226280" y="3566880"/>
              <a:ext cx="0" cy="1384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Jean Dollimore</cp:lastModifiedBy>
  <cp:lastPrinted>2000-11-12T21:05:10Z</cp:lastPrinted>
  <dcterms:modified xsi:type="dcterms:W3CDTF">2000-11-20T10:53:57Z</dcterms:modified>
  <cp:revision>50</cp:revision>
  <dc:subject/>
  <dc:title>Figure 15.1 A distributed multimedia system</dc:title>
</cp:coreProperties>
</file>